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D29-75DE-4160-B139-08AB3C4F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1A3-E1E7-40D8-98D1-E1CC0FB0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DD9-BC20-4C86-B121-5E0B3492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C64-335C-41D5-8527-31C246FF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25A-B07F-4B8B-A899-15166C6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27D-CC6A-4F00-8C07-4E5F3A08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CE0-AD71-4F8F-8653-B96FE83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834-D148-40BA-A9B8-434CB57C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73E-AA23-419D-9750-052588D7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CB9-CE6D-49F3-B272-9626B07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22-BB8C-4435-927E-2FF8A55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265-336E-4A3F-90CD-765FDF3F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E555-A31C-4595-BF0A-A9CCE94AC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75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1120" y="76320"/>
            <a:ext cx="8888760" cy="666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8000" y="33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49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49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49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4920" y="605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49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39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,5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–  0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39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2,3  –  0,1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9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4,08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39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5,1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8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9640" y="270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11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2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03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9640" y="6022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4,79  –  4,0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2100240" y="404640"/>
            <a:ext cx="50864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3132000" y="184464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,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3132000" y="26827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132000" y="35179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132000" y="43527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3132000" y="51879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3132000" y="602280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5007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5007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5007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45007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4500720" y="605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5007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003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9,64  –  0,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5003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8,09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2,0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5003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4,5  –  0,2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5003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7,45  –  2,0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003640" y="272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,55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003640" y="6022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2,3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7,0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7596360" y="18478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,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7596360" y="2682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,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7596360" y="35179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>
            <a:off x="7596360" y="43527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7596360" y="51879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7596360" y="602280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,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4500720" y="1052640"/>
            <a:ext cx="71280" cy="5805360"/>
          </a:xfrm>
          <a:prstGeom prst="line">
            <a:avLst/>
          </a:prstGeom>
          <a:ln w="38160">
            <a:solidFill>
              <a:srgbClr val="f7c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90000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580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57:36Z</dcterms:created>
  <dc:creator>Irina</dc:creator>
  <dc:description/>
  <dc:language>en-US</dc:language>
  <cp:lastModifiedBy>Ольга</cp:lastModifiedBy>
  <dcterms:modified xsi:type="dcterms:W3CDTF">2011-10-08T13:16:21Z</dcterms:modified>
  <cp:revision>13</cp:revision>
  <dc:subject/>
  <dc:title>Слайд 1</dc:title>
</cp:coreProperties>
</file>